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4AD-8D36-43A4-A084-8F051D8E95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F94-C790-42B5-B4DD-84EC985E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5E7-0262-44BC-B594-E0783462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EF7-CD2B-4990-B7D1-D94F7F85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E7D-D90D-4979-8DC3-A0061460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F12-53A3-4171-8732-47D0305B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F15-5EC5-4719-9846-DF7162F1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F85-353E-4FA8-BEEF-5858372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A43-2996-400E-8C8B-1EE284C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25D-6666-43A5-A7E4-C7CCD9D5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61F-8C27-4C2C-9141-EDDB22B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D9E-2117-4E97-9046-F8570FC3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A68-30F5-45CA-8357-3FE4B58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B22F-698F-4214-B317-AB332567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pretty basic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8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0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2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)The object was at rest, then mo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533520" y="31240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7"/>
          <p:cNvSpPr/>
          <p:nvPr/>
        </p:nvSpPr>
        <p:spPr>
          <a:xfrm>
            <a:off x="1371600" y="5105520"/>
            <a:ext cx="441972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9"/>
          <p:cNvSpPr/>
          <p:nvPr/>
        </p:nvSpPr>
        <p:spPr>
          <a:xfrm flipV="1">
            <a:off x="5638680" y="2209680"/>
            <a:ext cx="1371600" cy="28958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2"/>
          <p:cNvSpPr/>
          <p:nvPr/>
        </p:nvSpPr>
        <p:spPr>
          <a:xfrm flipH="1" flipV="1">
            <a:off x="1219320" y="1371600"/>
            <a:ext cx="3504960" cy="274320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3"/>
          <p:cNvSpPr/>
          <p:nvPr/>
        </p:nvSpPr>
        <p:spPr>
          <a:xfrm>
            <a:off x="4648320" y="4114800"/>
            <a:ext cx="243828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4"/>
          <p:cNvGrpSpPr/>
          <p:nvPr/>
        </p:nvGrpSpPr>
        <p:grpSpPr>
          <a:xfrm>
            <a:off x="1447920" y="2819520"/>
            <a:ext cx="2666880" cy="1447200"/>
            <a:chOff x="1447920" y="2819520"/>
            <a:chExt cx="2666880" cy="1447200"/>
          </a:xfrm>
        </p:grpSpPr>
        <p:sp>
          <p:nvSpPr>
            <p:cNvPr id="196" name="Rectangle 65"/>
            <p:cNvSpPr/>
            <p:nvPr/>
          </p:nvSpPr>
          <p:spPr>
            <a:xfrm>
              <a:off x="1447920" y="2819520"/>
              <a:ext cx="2666880" cy="1447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6"/>
            <p:cNvGrpSpPr/>
            <p:nvPr/>
          </p:nvGrpSpPr>
          <p:grpSpPr>
            <a:xfrm>
              <a:off x="1447920" y="3141000"/>
              <a:ext cx="2666880" cy="723240"/>
              <a:chOff x="1447920" y="3141000"/>
              <a:chExt cx="2666880" cy="723240"/>
            </a:xfrm>
          </p:grpSpPr>
          <p:sp>
            <p:nvSpPr>
              <p:cNvPr id="198" name="Line 67"/>
              <p:cNvSpPr/>
              <p:nvPr/>
            </p:nvSpPr>
            <p:spPr>
              <a:xfrm>
                <a:off x="1447920" y="3864240"/>
                <a:ext cx="2666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1937520" y="3141000"/>
                <a:ext cx="19663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7"/>
          <p:cNvSpPr/>
          <p:nvPr/>
        </p:nvSpPr>
        <p:spPr>
          <a:xfrm flipV="1">
            <a:off x="1295280" y="1371600"/>
            <a:ext cx="342900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)The object who got to the 5 meter mark the smalle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0"/>
          <p:cNvSpPr/>
          <p:nvPr/>
        </p:nvSpPr>
        <p:spPr>
          <a:xfrm>
            <a:off x="533520" y="2971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V="1">
            <a:off x="1295280" y="1371600"/>
            <a:ext cx="3353040" cy="4572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9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0"/>
          <p:cNvGrpSpPr/>
          <p:nvPr/>
        </p:nvGrpSpPr>
        <p:grpSpPr>
          <a:xfrm>
            <a:off x="5486400" y="3581280"/>
            <a:ext cx="3352320" cy="2361960"/>
            <a:chOff x="5486400" y="3581280"/>
            <a:chExt cx="3352320" cy="2361960"/>
          </a:xfrm>
        </p:grpSpPr>
        <p:sp>
          <p:nvSpPr>
            <p:cNvPr id="240" name="Rectangle 61"/>
            <p:cNvSpPr/>
            <p:nvPr/>
          </p:nvSpPr>
          <p:spPr>
            <a:xfrm>
              <a:off x="5486400" y="3581280"/>
              <a:ext cx="3352320" cy="23619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62"/>
            <p:cNvGrpSpPr/>
            <p:nvPr/>
          </p:nvGrpSpPr>
          <p:grpSpPr>
            <a:xfrm>
              <a:off x="5486400" y="4106160"/>
              <a:ext cx="3351960" cy="1180440"/>
              <a:chOff x="5486400" y="4106160"/>
              <a:chExt cx="3351960" cy="1180440"/>
            </a:xfrm>
          </p:grpSpPr>
          <p:sp>
            <p:nvSpPr>
              <p:cNvPr id="242" name="Line 63"/>
              <p:cNvSpPr/>
              <p:nvPr/>
            </p:nvSpPr>
            <p:spPr>
              <a:xfrm>
                <a:off x="5486400" y="5286600"/>
                <a:ext cx="3351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64"/>
              <p:cNvSpPr/>
              <p:nvPr/>
            </p:nvSpPr>
            <p:spPr>
              <a:xfrm>
                <a:off x="6102000" y="4106160"/>
                <a:ext cx="24717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0"/>
          <p:cNvSpPr/>
          <p:nvPr/>
        </p:nvSpPr>
        <p:spPr>
          <a:xfrm>
            <a:off x="457200" y="29718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)The object started on the 1 meter m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1219320" y="5105520"/>
            <a:ext cx="5867280" cy="9903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7"/>
          <p:cNvSpPr/>
          <p:nvPr/>
        </p:nvSpPr>
        <p:spPr>
          <a:xfrm flipV="1">
            <a:off x="1219320" y="2362320"/>
            <a:ext cx="5638680" cy="2743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0"/>
          <p:cNvGrpSpPr/>
          <p:nvPr/>
        </p:nvGrpSpPr>
        <p:grpSpPr>
          <a:xfrm>
            <a:off x="5562720" y="3581280"/>
            <a:ext cx="3123720" cy="1981080"/>
            <a:chOff x="5562720" y="3581280"/>
            <a:chExt cx="3123720" cy="1981080"/>
          </a:xfrm>
        </p:grpSpPr>
        <p:sp>
          <p:nvSpPr>
            <p:cNvPr id="284" name="Rectangle 61"/>
            <p:cNvSpPr/>
            <p:nvPr/>
          </p:nvSpPr>
          <p:spPr>
            <a:xfrm>
              <a:off x="5562720" y="3581280"/>
              <a:ext cx="31237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2"/>
            <p:cNvSpPr/>
            <p:nvPr/>
          </p:nvSpPr>
          <p:spPr>
            <a:xfrm>
              <a:off x="5663520" y="472788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63"/>
            <p:cNvSpPr/>
            <p:nvPr/>
          </p:nvSpPr>
          <p:spPr>
            <a:xfrm>
              <a:off x="6267960" y="36856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64"/>
          <p:cNvGrpSpPr/>
          <p:nvPr/>
        </p:nvGrpSpPr>
        <p:grpSpPr>
          <a:xfrm>
            <a:off x="1371600" y="1523880"/>
            <a:ext cx="2895480" cy="1904760"/>
            <a:chOff x="1371600" y="1523880"/>
            <a:chExt cx="2895480" cy="1904760"/>
          </a:xfrm>
        </p:grpSpPr>
        <p:sp>
          <p:nvSpPr>
            <p:cNvPr id="288" name="Rectangle 65"/>
            <p:cNvSpPr/>
            <p:nvPr/>
          </p:nvSpPr>
          <p:spPr>
            <a:xfrm>
              <a:off x="1371600" y="1523880"/>
              <a:ext cx="2895480" cy="190476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66"/>
            <p:cNvGrpSpPr/>
            <p:nvPr/>
          </p:nvGrpSpPr>
          <p:grpSpPr>
            <a:xfrm>
              <a:off x="1371600" y="1947240"/>
              <a:ext cx="2895480" cy="951840"/>
              <a:chOff x="1371600" y="1947240"/>
              <a:chExt cx="2895480" cy="951840"/>
            </a:xfrm>
          </p:grpSpPr>
          <p:sp>
            <p:nvSpPr>
              <p:cNvPr id="290" name="Line 67"/>
              <p:cNvSpPr/>
              <p:nvPr/>
            </p:nvSpPr>
            <p:spPr>
              <a:xfrm>
                <a:off x="1371600" y="289908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>
                <a:off x="1903320" y="1947240"/>
                <a:ext cx="213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0" fill="hold"/>
                                        <p:tgtEl>
                                          <p:spTgt spid="2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533520" y="1295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>
            <a:off x="1219320" y="6019920"/>
            <a:ext cx="57909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)The object is moving away from the reference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9"/>
          <p:cNvSpPr/>
          <p:nvPr/>
        </p:nvSpPr>
        <p:spPr>
          <a:xfrm>
            <a:off x="1219320" y="5943600"/>
            <a:ext cx="5790960" cy="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0"/>
          <p:cNvGrpSpPr/>
          <p:nvPr/>
        </p:nvGrpSpPr>
        <p:grpSpPr>
          <a:xfrm>
            <a:off x="4419720" y="3048120"/>
            <a:ext cx="3961800" cy="2590200"/>
            <a:chOff x="4419720" y="3048120"/>
            <a:chExt cx="3961800" cy="2590200"/>
          </a:xfrm>
        </p:grpSpPr>
        <p:sp>
          <p:nvSpPr>
            <p:cNvPr id="332" name="Rectangle 61"/>
            <p:cNvSpPr/>
            <p:nvPr/>
          </p:nvSpPr>
          <p:spPr>
            <a:xfrm>
              <a:off x="4419720" y="3048120"/>
              <a:ext cx="3961800" cy="25902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62"/>
            <p:cNvGrpSpPr/>
            <p:nvPr/>
          </p:nvGrpSpPr>
          <p:grpSpPr>
            <a:xfrm>
              <a:off x="4419720" y="3623760"/>
              <a:ext cx="3961440" cy="1294560"/>
              <a:chOff x="4419720" y="3623760"/>
              <a:chExt cx="3961440" cy="1294560"/>
            </a:xfrm>
          </p:grpSpPr>
          <p:sp>
            <p:nvSpPr>
              <p:cNvPr id="334" name="Line 63"/>
              <p:cNvSpPr/>
              <p:nvPr/>
            </p:nvSpPr>
            <p:spPr>
              <a:xfrm>
                <a:off x="4419720" y="4918320"/>
                <a:ext cx="396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64"/>
              <p:cNvSpPr/>
              <p:nvPr/>
            </p:nvSpPr>
            <p:spPr>
              <a:xfrm>
                <a:off x="5146920" y="3623760"/>
                <a:ext cx="2921040" cy="58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50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Line 60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)The object who turned around at 4 seco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45720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V="1">
            <a:off x="1143000" y="2285640"/>
            <a:ext cx="4724280" cy="380988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V="1">
            <a:off x="1219320" y="1371600"/>
            <a:ext cx="2286000" cy="46483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3581280" y="1447920"/>
            <a:ext cx="3353040" cy="449568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5867280" y="2286000"/>
            <a:ext cx="1143000" cy="18288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5715000" y="3429000"/>
            <a:ext cx="2895480" cy="2209320"/>
            <a:chOff x="5715000" y="3429000"/>
            <a:chExt cx="2895480" cy="2209320"/>
          </a:xfrm>
        </p:grpSpPr>
        <p:sp>
          <p:nvSpPr>
            <p:cNvPr id="380" name="Rectangle 63"/>
            <p:cNvSpPr/>
            <p:nvPr/>
          </p:nvSpPr>
          <p:spPr>
            <a:xfrm>
              <a:off x="5715000" y="3429000"/>
              <a:ext cx="2895480" cy="220932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64"/>
            <p:cNvGrpSpPr/>
            <p:nvPr/>
          </p:nvGrpSpPr>
          <p:grpSpPr>
            <a:xfrm>
              <a:off x="5715000" y="3920040"/>
              <a:ext cx="2895480" cy="1104120"/>
              <a:chOff x="5715000" y="3920040"/>
              <a:chExt cx="2895480" cy="1104120"/>
            </a:xfrm>
          </p:grpSpPr>
          <p:sp>
            <p:nvSpPr>
              <p:cNvPr id="382" name="Line 65"/>
              <p:cNvSpPr/>
              <p:nvPr/>
            </p:nvSpPr>
            <p:spPr>
              <a:xfrm>
                <a:off x="5715000" y="5024160"/>
                <a:ext cx="28954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66"/>
              <p:cNvSpPr/>
              <p:nvPr/>
            </p:nvSpPr>
            <p:spPr>
              <a:xfrm>
                <a:off x="6246720" y="3920040"/>
                <a:ext cx="21351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0" fill="hold"/>
                                        <p:tgtEl>
                                          <p:spTgt spid="3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2 note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)The object is moving toward the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0"/>
          <p:cNvSpPr/>
          <p:nvPr/>
        </p:nvSpPr>
        <p:spPr>
          <a:xfrm>
            <a:off x="45720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380880" y="2209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53"/>
          <p:cNvSpPr/>
          <p:nvPr/>
        </p:nvSpPr>
        <p:spPr>
          <a:xfrm>
            <a:off x="1295280" y="327672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1219320" y="1447920"/>
            <a:ext cx="457200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5562720" y="3352680"/>
            <a:ext cx="3352320" cy="1981080"/>
            <a:chOff x="5562720" y="3352680"/>
            <a:chExt cx="3352320" cy="1981080"/>
          </a:xfrm>
        </p:grpSpPr>
        <p:sp>
          <p:nvSpPr>
            <p:cNvPr id="424" name="Rectangle 61"/>
            <p:cNvSpPr/>
            <p:nvPr/>
          </p:nvSpPr>
          <p:spPr>
            <a:xfrm>
              <a:off x="5562720" y="3352680"/>
              <a:ext cx="335232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5670720" y="4499280"/>
              <a:ext cx="302724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63"/>
            <p:cNvSpPr/>
            <p:nvPr/>
          </p:nvSpPr>
          <p:spPr>
            <a:xfrm>
              <a:off x="6319800" y="3457080"/>
              <a:ext cx="183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5000" fill="hold"/>
                                        <p:tgtEl>
                                          <p:spTgt spid="4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7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4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) The object ended at the same location it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9320" y="1371600"/>
          <a:ext cx="5790960" cy="455616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1219320" y="4114800"/>
            <a:ext cx="114300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57"/>
          <p:cNvSpPr/>
          <p:nvPr/>
        </p:nvSpPr>
        <p:spPr>
          <a:xfrm flipV="1">
            <a:off x="1371600" y="1447560"/>
            <a:ext cx="2133720" cy="16002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59"/>
          <p:cNvSpPr/>
          <p:nvPr/>
        </p:nvSpPr>
        <p:spPr>
          <a:xfrm flipV="1">
            <a:off x="2286000" y="1447920"/>
            <a:ext cx="457200" cy="26668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60"/>
          <p:cNvSpPr/>
          <p:nvPr/>
        </p:nvSpPr>
        <p:spPr>
          <a:xfrm flipH="1" flipV="1">
            <a:off x="2743200" y="1447920"/>
            <a:ext cx="1905120" cy="45720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61"/>
          <p:cNvSpPr/>
          <p:nvPr/>
        </p:nvSpPr>
        <p:spPr>
          <a:xfrm flipV="1">
            <a:off x="4648320" y="5029200"/>
            <a:ext cx="236196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3581280" y="1447920"/>
            <a:ext cx="2210040" cy="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63"/>
          <p:cNvSpPr/>
          <p:nvPr/>
        </p:nvSpPr>
        <p:spPr>
          <a:xfrm>
            <a:off x="5791320" y="1523880"/>
            <a:ext cx="1295280" cy="441972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4"/>
          <p:cNvGrpSpPr/>
          <p:nvPr/>
        </p:nvGrpSpPr>
        <p:grpSpPr>
          <a:xfrm>
            <a:off x="6705720" y="1600200"/>
            <a:ext cx="2437920" cy="1752120"/>
            <a:chOff x="6705720" y="1600200"/>
            <a:chExt cx="2437920" cy="1752120"/>
          </a:xfrm>
        </p:grpSpPr>
        <p:sp>
          <p:nvSpPr>
            <p:cNvPr id="477" name="Rectangle 65"/>
            <p:cNvSpPr/>
            <p:nvPr/>
          </p:nvSpPr>
          <p:spPr>
            <a:xfrm>
              <a:off x="6705720" y="16002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>
              <a:off x="6784200" y="26143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67"/>
            <p:cNvSpPr/>
            <p:nvPr/>
          </p:nvSpPr>
          <p:spPr>
            <a:xfrm>
              <a:off x="7256160" y="16923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5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distance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58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)The object who traveled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stan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2 meters between 0 and 4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219320" y="1447920"/>
          <a:ext cx="5790960" cy="457200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609480" y="3048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457200" y="1371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3"/>
          <p:cNvSpPr/>
          <p:nvPr/>
        </p:nvSpPr>
        <p:spPr>
          <a:xfrm flipV="1">
            <a:off x="1219320" y="1447920"/>
            <a:ext cx="5715000" cy="44956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57"/>
          <p:cNvSpPr/>
          <p:nvPr/>
        </p:nvSpPr>
        <p:spPr>
          <a:xfrm flipV="1">
            <a:off x="1219320" y="1371600"/>
            <a:ext cx="3504960" cy="281952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59"/>
          <p:cNvGrpSpPr/>
          <p:nvPr/>
        </p:nvGrpSpPr>
        <p:grpSpPr>
          <a:xfrm>
            <a:off x="6477120" y="4343400"/>
            <a:ext cx="2437920" cy="1752120"/>
            <a:chOff x="6477120" y="4343400"/>
            <a:chExt cx="2437920" cy="1752120"/>
          </a:xfrm>
        </p:grpSpPr>
        <p:sp>
          <p:nvSpPr>
            <p:cNvPr id="520" name="Rectangle 60"/>
            <p:cNvSpPr/>
            <p:nvPr/>
          </p:nvSpPr>
          <p:spPr>
            <a:xfrm>
              <a:off x="6477120" y="4343400"/>
              <a:ext cx="2437920" cy="175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61"/>
            <p:cNvSpPr/>
            <p:nvPr/>
          </p:nvSpPr>
          <p:spPr>
            <a:xfrm>
              <a:off x="6555600" y="5357520"/>
              <a:ext cx="22017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2"/>
            <p:cNvSpPr/>
            <p:nvPr/>
          </p:nvSpPr>
          <p:spPr>
            <a:xfrm>
              <a:off x="7027560" y="4435560"/>
              <a:ext cx="13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3"/>
          <p:cNvGrpSpPr/>
          <p:nvPr/>
        </p:nvGrpSpPr>
        <p:grpSpPr>
          <a:xfrm>
            <a:off x="6400800" y="1676520"/>
            <a:ext cx="2438280" cy="1675800"/>
            <a:chOff x="6400800" y="1676520"/>
            <a:chExt cx="2438280" cy="1675800"/>
          </a:xfrm>
        </p:grpSpPr>
        <p:sp>
          <p:nvSpPr>
            <p:cNvPr id="524" name="Rectangle 64"/>
            <p:cNvSpPr/>
            <p:nvPr/>
          </p:nvSpPr>
          <p:spPr>
            <a:xfrm>
              <a:off x="6400800" y="1676520"/>
              <a:ext cx="2438280" cy="167580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Group 65"/>
            <p:cNvGrpSpPr/>
            <p:nvPr/>
          </p:nvGrpSpPr>
          <p:grpSpPr>
            <a:xfrm>
              <a:off x="6400800" y="2049120"/>
              <a:ext cx="2438280" cy="837360"/>
              <a:chOff x="6400800" y="2049120"/>
              <a:chExt cx="2438280" cy="837360"/>
            </a:xfrm>
          </p:grpSpPr>
          <p:sp>
            <p:nvSpPr>
              <p:cNvPr id="526" name="Line 66"/>
              <p:cNvSpPr/>
              <p:nvPr/>
            </p:nvSpPr>
            <p:spPr>
              <a:xfrm>
                <a:off x="6400800" y="2886480"/>
                <a:ext cx="243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67"/>
              <p:cNvSpPr/>
              <p:nvPr/>
            </p:nvSpPr>
            <p:spPr>
              <a:xfrm>
                <a:off x="6848280" y="2049120"/>
                <a:ext cx="179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ne index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oli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n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6019920" y="1523880"/>
            <a:ext cx="2361960" cy="1447920"/>
            <a:chOff x="6019920" y="1523880"/>
            <a:chExt cx="2361960" cy="1447920"/>
          </a:xfrm>
        </p:grpSpPr>
        <p:sp>
          <p:nvSpPr>
            <p:cNvPr id="54" name="Rectangle 4"/>
            <p:cNvSpPr/>
            <p:nvPr/>
          </p:nvSpPr>
          <p:spPr>
            <a:xfrm>
              <a:off x="6019920" y="1523880"/>
              <a:ext cx="2361960" cy="144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6095880" y="2361960"/>
              <a:ext cx="21330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53080" y="160020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6019920" y="4572000"/>
            <a:ext cx="2514600" cy="1295280"/>
            <a:chOff x="6019920" y="4572000"/>
            <a:chExt cx="2514600" cy="1295280"/>
          </a:xfrm>
        </p:grpSpPr>
        <p:sp>
          <p:nvSpPr>
            <p:cNvPr id="58" name="Rectangle 6"/>
            <p:cNvSpPr/>
            <p:nvPr/>
          </p:nvSpPr>
          <p:spPr>
            <a:xfrm>
              <a:off x="6019920" y="4572000"/>
              <a:ext cx="2514600" cy="129528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6019920" y="4859640"/>
              <a:ext cx="2514600" cy="647640"/>
              <a:chOff x="6019920" y="4859640"/>
              <a:chExt cx="2514600" cy="647640"/>
            </a:xfrm>
          </p:grpSpPr>
          <p:sp>
            <p:nvSpPr>
              <p:cNvPr id="60" name="Line 7"/>
              <p:cNvSpPr/>
              <p:nvPr/>
            </p:nvSpPr>
            <p:spPr>
              <a:xfrm>
                <a:off x="6019920" y="5507280"/>
                <a:ext cx="2514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0"/>
              <p:cNvSpPr/>
              <p:nvPr/>
            </p:nvSpPr>
            <p:spPr>
              <a:xfrm>
                <a:off x="6481440" y="4859640"/>
                <a:ext cx="185400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bf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ked a series of questions pertaining to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graph, their will be two lines, a solid line and a dash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top of the graph is a stat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hand with the card indicating if it is the  solid line  or  dashed the statement is referring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dead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838080" y="1676520"/>
            <a:ext cx="73152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d084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ad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d084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0"/>
          <p:cNvSpPr/>
          <p:nvPr/>
        </p:nvSpPr>
        <p:spPr>
          <a:xfrm>
            <a:off x="533520" y="30481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1"/>
          <p:cNvSpPr/>
          <p:nvPr/>
        </p:nvSpPr>
        <p:spPr>
          <a:xfrm>
            <a:off x="45720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4"/>
          <p:cNvSpPr txBox="1"/>
          <p:nvPr/>
        </p:nvSpPr>
        <p:spPr>
          <a:xfrm rot="20492400">
            <a:off x="4987800" y="16588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)The object is at rest on the 4 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371600"/>
          <a:ext cx="5790960" cy="464832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380880" y="21337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2"/>
          <p:cNvSpPr/>
          <p:nvPr/>
        </p:nvSpPr>
        <p:spPr>
          <a:xfrm>
            <a:off x="457200" y="1295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1295280" y="2286000"/>
            <a:ext cx="57150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>
            <a:off x="1295280" y="2362320"/>
            <a:ext cx="5181840" cy="3657600"/>
          </a:xfrm>
          <a:prstGeom prst="line">
            <a:avLst/>
          </a:prstGeom>
          <a:ln w="10152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2"/>
          <p:cNvGrpSpPr/>
          <p:nvPr/>
        </p:nvGrpSpPr>
        <p:grpSpPr>
          <a:xfrm>
            <a:off x="5715000" y="3200400"/>
            <a:ext cx="3123720" cy="1904760"/>
            <a:chOff x="5715000" y="3200400"/>
            <a:chExt cx="3123720" cy="1904760"/>
          </a:xfrm>
        </p:grpSpPr>
        <p:sp>
          <p:nvSpPr>
            <p:cNvPr id="105" name="Rectangle 63"/>
            <p:cNvSpPr/>
            <p:nvPr/>
          </p:nvSpPr>
          <p:spPr>
            <a:xfrm>
              <a:off x="5715000" y="3200400"/>
              <a:ext cx="31237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4"/>
            <p:cNvSpPr/>
            <p:nvPr/>
          </p:nvSpPr>
          <p:spPr>
            <a:xfrm>
              <a:off x="5815800" y="4302720"/>
              <a:ext cx="28209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5"/>
            <p:cNvSpPr/>
            <p:nvPr/>
          </p:nvSpPr>
          <p:spPr>
            <a:xfrm>
              <a:off x="6420240" y="3300480"/>
              <a:ext cx="171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4"/>
          <p:cNvSpPr/>
          <p:nvPr/>
        </p:nvSpPr>
        <p:spPr>
          <a:xfrm>
            <a:off x="380880" y="4038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0"/>
          <p:cNvSpPr txBox="1"/>
          <p:nvPr/>
        </p:nvSpPr>
        <p:spPr>
          <a:xfrm rot="20492400">
            <a:off x="5410080" y="2209680"/>
            <a:ext cx="373392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sw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The object is 30 meters away from the reference point at 2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371600"/>
          <a:ext cx="5790960" cy="4632480"/>
        </p:xfrm>
        <a:graphic>
          <a:graphicData uri="http://schemas.openxmlformats.org/drawingml/2006/table">
            <a:tbl>
              <a:tblPr/>
              <a:tblGrid>
                <a:gridCol w="1157040"/>
                <a:gridCol w="1158840"/>
                <a:gridCol w="1159200"/>
                <a:gridCol w="1158840"/>
                <a:gridCol w="1157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0" y="4800600"/>
            <a:ext cx="12952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380880" y="3962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304920" y="30481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304920" y="2133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304920" y="12193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7"/>
          <p:cNvSpPr/>
          <p:nvPr/>
        </p:nvSpPr>
        <p:spPr>
          <a:xfrm>
            <a:off x="1219320" y="2971800"/>
            <a:ext cx="5715000" cy="114300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 flipV="1">
            <a:off x="1295280" y="2286000"/>
            <a:ext cx="5715000" cy="2743200"/>
          </a:xfrm>
          <a:prstGeom prst="line">
            <a:avLst/>
          </a:prstGeom>
          <a:ln w="1015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0"/>
          <p:cNvGrpSpPr/>
          <p:nvPr/>
        </p:nvGrpSpPr>
        <p:grpSpPr>
          <a:xfrm>
            <a:off x="5486400" y="3733920"/>
            <a:ext cx="3428640" cy="2057040"/>
            <a:chOff x="5486400" y="3733920"/>
            <a:chExt cx="3428640" cy="2057040"/>
          </a:xfrm>
        </p:grpSpPr>
        <p:sp>
          <p:nvSpPr>
            <p:cNvPr id="148" name="Rectangle 61"/>
            <p:cNvSpPr/>
            <p:nvPr/>
          </p:nvSpPr>
          <p:spPr>
            <a:xfrm>
              <a:off x="5486400" y="3733920"/>
              <a:ext cx="3428640" cy="2057040"/>
            </a:xfrm>
            <a:prstGeom prst="rect">
              <a:avLst/>
            </a:prstGeom>
            <a:solidFill>
              <a:srgbClr val="f1dbeb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2"/>
            <p:cNvGrpSpPr/>
            <p:nvPr/>
          </p:nvGrpSpPr>
          <p:grpSpPr>
            <a:xfrm>
              <a:off x="5486400" y="4191120"/>
              <a:ext cx="3428280" cy="1028160"/>
              <a:chOff x="5486400" y="4191120"/>
              <a:chExt cx="3428280" cy="1028160"/>
            </a:xfrm>
          </p:grpSpPr>
          <p:sp>
            <p:nvSpPr>
              <p:cNvPr id="150" name="Line 63"/>
              <p:cNvSpPr/>
              <p:nvPr/>
            </p:nvSpPr>
            <p:spPr>
              <a:xfrm>
                <a:off x="5486400" y="5219280"/>
                <a:ext cx="3428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4"/>
              <p:cNvSpPr/>
              <p:nvPr/>
            </p:nvSpPr>
            <p:spPr>
              <a:xfrm>
                <a:off x="6115680" y="4191120"/>
                <a:ext cx="252792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ASHE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20:11:50Z</dcterms:created>
  <dc:creator>Home</dc:creator>
  <dc:description/>
  <dc:language>en-US</dc:language>
  <cp:lastModifiedBy>RomaK</cp:lastModifiedBy>
  <dcterms:modified xsi:type="dcterms:W3CDTF">2015-09-03T12:35:26Z</dcterms:modified>
  <cp:revision>11</cp:revision>
  <dc:subject/>
  <dc:title>Slide 1</dc:title>
</cp:coreProperties>
</file>